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DE6-54C2-4E1F-B462-9C075D2E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D420-A152-4F79-89BC-DC655BB0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BFD-8CB3-4F05-AFD0-1D598EAA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5EE-A646-4337-AEE3-740FBF17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2BA7-D412-4328-8BC1-0149A048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0393-0984-4EEB-8BE3-900F009F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6931-1EA4-4C69-8D4A-C99BB993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5CC8-5920-4BED-9598-B44C3F4F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7B5F-851C-482E-8233-1E62386C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953E-1DC1-4558-91B8-8B1DF9F4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417F-A86A-4805-A903-1DD1D4E4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CB2-3C9A-461F-A40D-9BE2B150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C5E6-AC88-4554-829E-D2678C3B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E1E7-A39D-4C6C-83D0-1A864DDB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1C98-67FA-40F5-90A0-F8FFCE75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979B-7576-47B8-8BE8-5D40C4FB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696E-5072-44BB-956E-2A5326D8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E0FD-5B81-4EC7-B32D-3D5974F8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882-3024-43F9-A2FB-41BA6BAE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8F07-3C84-42A4-87C2-652ED3D0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B04A-EDDF-493B-AA35-71827954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FF17-B8CD-4F3F-B58C-C8AC7228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65E-D4B7-48CF-A22C-8B73E15B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33E-FD92-4F09-BE18-04BCBFAF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9981-7E57-4163-AD0D-84659CF3CC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D7C8-C9DA-4C18-A89F-C67135EFAD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1:47:56Z</dcterms:modified>
  <cp:revision>39</cp:revision>
  <dc:subject/>
  <dc:title>Структура собственных доходов на 2016 год бюджета Дальнереченского городского округа</dc:title>
</cp:coreProperties>
</file>